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76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560" y="4054680"/>
            <a:ext cx="88376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3300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2560" y="99072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0920" y="99072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560" y="405468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2560" y="405468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0920" y="405468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76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76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421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8376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3300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88376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76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054680"/>
            <a:ext cx="88376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3300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2560" y="99072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0920" y="99072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05468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2560" y="405468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0920" y="4054680"/>
            <a:ext cx="2845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76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421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33000" y="405468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3000" y="990720"/>
            <a:ext cx="43124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560" y="4054680"/>
            <a:ext cx="8837640" cy="279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4216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720"/>
            <a:ext cx="8837640" cy="58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spcBef>
                <a:spcPts val="539"/>
              </a:spcBef>
              <a:buClr>
                <a:srgbClr val="0000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539"/>
              </a:spcBef>
              <a:buClr>
                <a:srgbClr val="0000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539"/>
              </a:spcBef>
              <a:buClr>
                <a:srgbClr val="ffffcc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539"/>
              </a:spcBef>
              <a:buClr>
                <a:srgbClr val="ffffcc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53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98600" y="93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SCUOLA E SOFTWARE LIB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4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5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HG Mincho Light J"/>
              </a:rPr>
              <a:t>LinuxDay, Udine, 23 novembre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HG Mincho Light J"/>
              </a:rPr>
              <a:t>Loris Tissi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cc"/>
                </a:solidFill>
                <a:latin typeface="Times New Roman"/>
                <a:ea typeface="HG Mincho Light J"/>
              </a:rPr>
              <a:t>Presentazione parzialmente adattata da un lavoro di Alessandro Rubini &lt;rubini@gnu.org&gt;,</a:t>
            </a:r>
            <a:br>
              <a:rPr sz="1500"/>
            </a:br>
            <a:r>
              <a:rPr b="0" lang="en-GB" sz="1500" spc="-1" strike="noStrike">
                <a:solidFill>
                  <a:srgbClr val="ffffcc"/>
                </a:solidFill>
                <a:latin typeface="Times New Roman"/>
                <a:ea typeface="HG Mincho Light J"/>
              </a:rPr>
              <a:t>per gentile concessione dell'autore (gli errori introdotti sono mie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Software libero solo per Linux?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Esiste software libero anche per altre piattaform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Esempi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OpenOffice.org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Cygwin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Octav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... molto altro (basta chiedere)</a:t>
            </a: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Valori da trasmettere nella didattica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Indipendenza cultura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a cultura non viene da un produttore sol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Insegnare vuol dire far comprendere, non ammaestra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Indipendenza econom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ossibilità di fornire gli strumenti di lavor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ossibilità di usare elaboratori obsolet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Cooperazione interpersona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oter condividere il lavoro fatt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oter verificare il lavoro delle altre person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Creatività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Non c'è un modo solo di fare le cos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Stando sulle spalle dei giganti si può vedere più lontan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Il software libero in classe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Alcune idee per affrontare il tem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Diritt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diritto d'autore, brevettabilità del software,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icenze libere/proprietarie, educazione alla legalità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Economia / economia azienda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ibera concorrenza, modelli commercial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TCO (total cost of ownership, costo totale di possesso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organizzazione nella produzione del softwa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tori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storia della scienza, controllo dell'informazion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Ingles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traduzioni di documentazion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Informat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Indipendenza culturale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5000"/>
              </a:lnSpc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Il software libero: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ermette di appropriarsi dei meccanismi conoscitivi complet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rende consapevole lo studente delle procedure che svolg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non appiattisce su interfacce grafich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non alimenta luoghi comuni, stereotipi, pregiudiz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educa all'uso di formati aperti per lo scambio di informazion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valorizza il ruolo dell'insegnant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sottolinea la creatività di approcci divers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rende l'utente autonomo dal fornito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Alcune obiezioni che vengono poste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«Dovete usare il software più diffuso nelle case»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«Dovete far conoscere quello che si usa negli uffici»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a scuola ha lo scopo di educare, non di addestra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a scuola non può essere subalterna alle aziend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'insegnante ha un ruolo didattico, non è un piazzista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Quello che si usa oggi sarà comunque sostituito doman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«Il programma L non è professionale come P»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a scuola deve insegnare vari strument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Andare troppo in dettaglio su uno strumento è controproducent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e aziende sono libere di scegliere P, la scuola ha altre priorità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Il fatto che le aziende scelgano P non significa che P sia lo strumento miglio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«È necessario  P perché tutti usano il formato F»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Nessuna informazione è rappresentabile in un solo format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'uso di formati standard favorisce l'interoperabilità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Tre buone ragioni per adottare software libero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1: Cultura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È rispettoso della libertà d'insegnament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Valorizza il programmatore più che l'azienda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Educa al rispetto del diritto d'auto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ermette la crescita autonoma dell'alliev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2: Econom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ermette a tutti di fruire degli strumenti didattic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ermette di usare macchina definite obsolete dai più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Fa spendere meno alle scuol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3: Tecn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Realizza la trasparenza affidabilità e sicurezza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Realizza l'indipendenza dalla piattaforma hardwa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Molti software liberi sono usati in server di portata industrial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Alcune scelte possibili subito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Per vari motivi, è comprensibile la difficoltà di alcuni insegnanti nell'introdurre GNU/Linux nella scuola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difficoltà tecniche (dipende dal punto di vista...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mancanza di programmi particolari necessar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mancanza di tempo per aggiornament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Ma alcune scelte possono avvicinare all'uso di software liber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1. Formati aperti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(Di)mostrare l'interoperabilità delle applicazioni quando si usano formati aperti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osta elettronica vista con diversi programm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agine web che rispettano gli standard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formati standard per la pubblicazione di document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2. Uso di software libero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Utilizzare software libero laddove è possibile (per tutte le piattaforme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OpenOffice.org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editor e compilator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rogrammi di posta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client SSH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3. Liberare i server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Utilizzare sistemi GNU/Linux e software libero sui serv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autenticazione degli utenti (samb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server web (apache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database (postgreSQL, MySql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inguaggi per applicazioni web (PHP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Introduzione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Cosa si intende per software liber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Didattica con il software liber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Alcune cose che si possono far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Riferimenti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4. Rifornire gli allievi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Fornire agli allievi software liber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editor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compilator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applicazioni d'uffici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documentazione sotto licenza FDL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Riferimenti importanti (da cui partire)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nux nella didattic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http://www.linuxdidattica.org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Mailing list "Linux-Scuola"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http://lists.linux.it/listinfo/scuola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Progetto ECDL-libr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http://ecdllibre.sourceforge.net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Questa presentazione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Ringrazio gli iscritti alla mailing list linux-scuola per i molti spunti sui temi trattati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rego di segnalare eventuali errori o inesattezz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pyright (C) 2002 Loris Tissino &lt;loris@tissino.it&g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La copia letterale e la distribuzione di questa presentazione nella sua integrità sono permesse con qualsiasi mezzo, a condizione che questa nota sia riprodotta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Cosa si intende per "software libero"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Free softwar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"Free as in freedom"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...non "Free as in free beer"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"E' un peccato che una lingua così importante manchi di una parola così importante” (Richard Stallma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Codice sorgente e codice eseguibile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Codice sorgen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rogramma scritto in un "linguaggio di programmazione ad alto livello"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37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(es. C, C++, Pascal, Visual Basic)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eggibile da un essere umano (che conosca il linguaggio utilizzato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è la forma preferenziale per modificare il lavor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Codice eseguibi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ottenuto tramite il processo di compilazion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è in "linguaggio macchina"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e istruzioni vengono direttamente eseguite dal processor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Le libertà relative al software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bertà 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eseguire il programma per qualsiasi scopo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bertà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modificare il programma per adattarlo alle proprie esigenz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(accesso al codice sorgente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bertà 2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ridistribuire il programma a chiunqu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(libertà di copia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bertà 3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migliorare il programma e rilasciare le versioni modificat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(a vantaggio degli utilizzatori successivi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Alcuni termini che si usano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5000"/>
              </a:lnSpc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... e su cui è bene fare chiarezz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"open source" (a sorgente aperto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"public domain" (non coperto da copyright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con "copyright" (soggetto a diritto d'autore)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copylefted (con "permesso d'autore"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con licenza GNU GP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parzialmente liber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Freewar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harewar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commercia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Software proprietario (non libero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Il progetto GNU (GNU's Not Unix)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nato nel 1984 su ispirazione di Richard Stallma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basato sull'esigenza di costruire un corpus di programmi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liberi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per la soddisfazione di tutte le esigenz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gestito dalla Free Software Foundatio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La licenza GPL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95000"/>
              </a:lnSpc>
              <a:spcBef>
                <a:spcPts val="53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GNU General Public Licens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bertà d'uso del software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Disponibilità del codice sorgen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bertà di copi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Obbligo di mantenere la nota di copyright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Libertà di rilascio di versioni modifica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Obbligo d'uso della stessa licenza per le versioni modificate 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Assenza di garanzi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643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Times New Roman"/>
                <a:ea typeface="HG Mincho Light J"/>
              </a:rPr>
              <a:t>GNU/Linux</a:t>
            </a:r>
            <a:endParaRPr b="0" i="1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5000"/>
              </a:lnSpc>
              <a:spcBef>
                <a:spcPts val="539"/>
              </a:spcBef>
              <a:buClr>
                <a:srgbClr val="0000ff"/>
              </a:buClr>
              <a:buSzPct val="80000"/>
              <a:buFont typeface="Monotype Sort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</a:rPr>
              <a:t>Distribuzione Linux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Kernel (GPL)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Utilities, compilatori, ecc. (GPL), dal progetto GNU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0000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ffffcc"/>
                </a:solidFill>
                <a:latin typeface="Times New Roman"/>
              </a:rPr>
              <a:t>Altro software con diverse licenze</a:t>
            </a:r>
            <a:endParaRPr b="0" i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is Tissino</dc:creator>
  <dc:description/>
  <dc:language>en-US</dc:language>
  <cp:lastModifiedBy>Loris Tissino</cp:lastModifiedBy>
  <cp:revision>0</cp:revision>
  <dc:subject/>
  <dc:title>SCUOLA E SOFTWARE LIBERO</dc:title>
</cp:coreProperties>
</file>